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3778200" y="0"/>
            <a:ext cx="287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44960" cy="3703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1648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942660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6240"/>
            <a:ext cx="28702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E9B85-832C-446A-8E51-01EF00826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8"/>
          <p:cNvSpPr/>
          <p:nvPr/>
        </p:nvSpPr>
        <p:spPr>
          <a:xfrm>
            <a:off x="3778200" y="9426600"/>
            <a:ext cx="287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FFFA4-F05B-470D-A813-905DDE05C9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778200" y="9426600"/>
            <a:ext cx="287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E2EBB-D66A-4327-8BB8-6ED3D59EEC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8"/>
          <p:cNvSpPr/>
          <p:nvPr/>
        </p:nvSpPr>
        <p:spPr>
          <a:xfrm>
            <a:off x="3778200" y="9426600"/>
            <a:ext cx="287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52B8F-E6BC-41BC-AD0C-2C9E795B61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3778200" y="9426600"/>
            <a:ext cx="287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F2496-3826-4DD5-848E-35774B987F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8"/>
          <p:cNvSpPr/>
          <p:nvPr/>
        </p:nvSpPr>
        <p:spPr>
          <a:xfrm>
            <a:off x="3778200" y="9426600"/>
            <a:ext cx="287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684AE-654C-435C-AC48-16D47C8AD2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3778200" y="9426600"/>
            <a:ext cx="287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772DC-DD55-4161-89CD-AE52CBF01F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8"/>
          <p:cNvSpPr/>
          <p:nvPr/>
        </p:nvSpPr>
        <p:spPr>
          <a:xfrm>
            <a:off x="3778200" y="9426600"/>
            <a:ext cx="287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7B4FF-2BC8-4598-8A5E-BBB00855721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6600"/>
            <a:ext cx="287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A40EA-726B-4830-A692-1588524FD26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8"/>
          <p:cNvSpPr/>
          <p:nvPr/>
        </p:nvSpPr>
        <p:spPr>
          <a:xfrm>
            <a:off x="3778200" y="9426600"/>
            <a:ext cx="2870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6C9E5-210D-4C76-961A-B3768CFDA3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778200" y="9426600"/>
            <a:ext cx="287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57CBC-6291-4CB2-9629-9AE4E42F3F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211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0993-0D56-45EF-98AC-793197E12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480" y="1949040"/>
            <a:ext cx="782640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480" y="3990600"/>
            <a:ext cx="782640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B168-30F4-4384-96CF-E60BFC037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480" y="1949040"/>
            <a:ext cx="3819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63240" y="1949040"/>
            <a:ext cx="3819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480" y="3990600"/>
            <a:ext cx="3819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63240" y="3990600"/>
            <a:ext cx="3819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A1A2-A4A2-45AD-8FBE-1362AB841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480" y="1949040"/>
            <a:ext cx="252000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8840" y="1949040"/>
            <a:ext cx="252000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5200" y="1949040"/>
            <a:ext cx="252000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480" y="3990600"/>
            <a:ext cx="252000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8840" y="3990600"/>
            <a:ext cx="252000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5200" y="3990600"/>
            <a:ext cx="252000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13E7-D19D-4458-95CC-C36D77317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480" y="1949040"/>
            <a:ext cx="782640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5E80-B0AF-4803-A813-278CB26DBA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480" y="1949040"/>
            <a:ext cx="78264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3E71-737A-4166-8656-AC4977553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480" y="1949040"/>
            <a:ext cx="381924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63240" y="1949040"/>
            <a:ext cx="381924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7632-FDD6-4A1C-A933-2931917A2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88C5-7C9C-4782-BD0B-969CE18A0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040" y="11592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FC28-AC3E-4420-93C4-C7D9050FD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480" y="1949040"/>
            <a:ext cx="3819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240" y="1949040"/>
            <a:ext cx="381924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480" y="3990600"/>
            <a:ext cx="3819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3CD9-9680-4F7F-93CA-1A373FD3B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480" y="1949040"/>
            <a:ext cx="381924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3240" y="1949040"/>
            <a:ext cx="3819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63240" y="3990600"/>
            <a:ext cx="3819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0E54-69C0-43DC-BAFF-F65EA695F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480" y="1949040"/>
            <a:ext cx="3819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3240" y="1949040"/>
            <a:ext cx="3819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480" y="3990600"/>
            <a:ext cx="782640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27DF-9B41-4E47-8CB8-3E8D6E1FD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480" y="1949040"/>
            <a:ext cx="78264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5640" y="6365880"/>
            <a:ext cx="53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42018-8976-4B0A-924C-DAC738514EA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ussianculture.ru/zoomimg.asp?Name=39-78-1&amp;Lage=Tru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hyperlink" Target="http://www.labirint.ru/screenshot/goods/482029/3/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71280"/>
            <a:ext cx="83934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селевского городского округ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Средняя общеобразовательная школа № 5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2280" y="2133720"/>
            <a:ext cx="87807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Фразеологизмы в нашей ре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4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3276720"/>
            <a:ext cx="3773520" cy="1371600"/>
          </a:xfrm>
          <a:prstGeom prst="rect">
            <a:avLst/>
          </a:prstGeom>
          <a:solidFill>
            <a:srgbClr val="6afe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Фразеологизм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ишедшие из бы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обычаев и тради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на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57120" y="5157720"/>
            <a:ext cx="3836880" cy="1311480"/>
          </a:xfrm>
          <a:prstGeom prst="rect">
            <a:avLst/>
          </a:prstGeom>
          <a:solidFill>
            <a:srgbClr val="ead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Фразеологиз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ишедшие из професс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и деятельности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716360" y="1631880"/>
            <a:ext cx="3816360" cy="1135080"/>
          </a:xfrm>
          <a:prstGeom prst="rect">
            <a:avLst/>
          </a:prstGeom>
          <a:solidFill>
            <a:srgbClr val="65f5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Фразеологизм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ишедшие из мифов и леген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395280" y="1663560"/>
            <a:ext cx="3798720" cy="1103400"/>
          </a:xfrm>
          <a:prstGeom prst="rect">
            <a:avLst/>
          </a:prstGeom>
          <a:solidFill>
            <a:srgbClr val="65f5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Фразеологизмы, вышедш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из пословиц, поговорок, сказ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4716360" y="3086280"/>
            <a:ext cx="3741840" cy="1368360"/>
          </a:xfrm>
          <a:prstGeom prst="rect">
            <a:avLst/>
          </a:prstGeom>
          <a:solidFill>
            <a:srgbClr val="ead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Фразеологиз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ишедшие из Библ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ГРУППЫ фразеологизмов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4932360" y="5126040"/>
            <a:ext cx="3887640" cy="1343160"/>
          </a:xfrm>
          <a:prstGeom prst="rect">
            <a:avLst/>
          </a:prstGeom>
          <a:solidFill>
            <a:srgbClr val="65f5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Фразеологизмы, возникш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из наблюдений за живот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75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c2c84"/>
                </a:solidFill>
                <a:latin typeface="Arial"/>
              </a:rPr>
              <a:t>ФРАЗЕОЛОГИЗМЫ, ПРИШЕДШИЕ ИЗ МИФОВ И ЛЕГЕНД</a:t>
            </a:r>
            <a:br>
              <a:rPr sz="2400"/>
            </a:b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АНИЧЕСКИЙ СТРАХ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4" name="Объект 6" descr="Картина Врубеля Пан"/>
          <p:cNvPicPr/>
          <p:nvPr/>
        </p:nvPicPr>
        <p:blipFill>
          <a:blip r:embed="rId1"/>
          <a:stretch/>
        </p:blipFill>
        <p:spPr>
          <a:xfrm>
            <a:off x="2556000" y="2133720"/>
            <a:ext cx="33177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620280"/>
            <a:ext cx="788688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c2c84"/>
                </a:solidFill>
                <a:latin typeface="Arial"/>
              </a:rPr>
              <a:t>ФРАЗЕОЛОГИЗМЫ, ПРИШЕДШИЕ ИЗ БИБЛИИ</a:t>
            </a:r>
            <a:br>
              <a:rPr sz="2200"/>
            </a:br>
            <a:r>
              <a:rPr b="1" lang="ru-RU" sz="2200" spc="-1" strike="noStrike">
                <a:solidFill>
                  <a:srgbClr val="2c2c84"/>
                </a:solidFill>
                <a:latin typeface="Arial"/>
              </a:rPr>
              <a:t>КОЗЁЛ ОТПУЩЕНИЯ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6" name="Picture 5" descr="«Козёл отпущения». Картина Вильяма Хольмана Ханта, 1854"/>
          <p:cNvPicPr/>
          <p:nvPr/>
        </p:nvPicPr>
        <p:blipFill>
          <a:blip r:embed="rId1"/>
          <a:stretch/>
        </p:blipFill>
        <p:spPr>
          <a:xfrm>
            <a:off x="1563840" y="1841400"/>
            <a:ext cx="60163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549360"/>
            <a:ext cx="7886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c2c84"/>
                </a:solidFill>
                <a:latin typeface="Arial"/>
              </a:rPr>
              <a:t>ФРАЗЕОЛОГИЗМЫ, ПРИШЕДШИЕ ИЗ ПРОФЕССИЙ И ДЕЯТЕЛЬНОСТИ ЛЮДЕЙ</a:t>
            </a:r>
            <a:br>
              <a:rPr sz="2200"/>
            </a:br>
            <a:r>
              <a:rPr b="1" lang="ru-RU" sz="2200" spc="-1" strike="noStrike">
                <a:solidFill>
                  <a:srgbClr val="2c2c84"/>
                </a:solidFill>
                <a:latin typeface="Arial"/>
              </a:rPr>
              <a:t>ЗАРУБИТЬ НА НОСУ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8" name="yui_3_10_0_1_1456676693655_824" descr="Зарубить на носу | IzbaChitalnja"/>
          <p:cNvPicPr/>
          <p:nvPr/>
        </p:nvPicPr>
        <p:blipFill>
          <a:blip r:embed="rId1"/>
          <a:stretch/>
        </p:blipFill>
        <p:spPr>
          <a:xfrm>
            <a:off x="2243160" y="1706400"/>
            <a:ext cx="46576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8865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c2c84"/>
                </a:solidFill>
                <a:latin typeface="Arial"/>
              </a:rPr>
              <a:t>ФРАЗЕОЛОГИЗМЫ, ПРИШЕДШИЕ ИЗ БЫТА, ОБЫЧАЕВ И ТРАДИЦИЙ НАРОДА</a:t>
            </a:r>
            <a:br>
              <a:rPr sz="2200"/>
            </a:br>
            <a:r>
              <a:rPr b="1" lang="ru-RU" sz="2200" spc="-1" strike="noStrike">
                <a:solidFill>
                  <a:srgbClr val="2c2c84"/>
                </a:solidFill>
                <a:latin typeface="Arial"/>
              </a:rPr>
              <a:t>К ШАПОЧНОМУ РАЗБОРУ</a:t>
            </a: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0" name="yui_3_10_0_1_1458137516333_2241" descr="19. Церковь Пресвятой Троицы, Жилой дом ..."/>
          <p:cNvPicPr/>
          <p:nvPr/>
        </p:nvPicPr>
        <p:blipFill>
          <a:blip r:embed="rId1"/>
          <a:stretch/>
        </p:blipFill>
        <p:spPr>
          <a:xfrm>
            <a:off x="423720" y="1962000"/>
            <a:ext cx="3106800" cy="30816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"/>
          <p:cNvPicPr/>
          <p:nvPr/>
        </p:nvPicPr>
        <p:blipFill>
          <a:blip r:embed="rId2"/>
          <a:stretch/>
        </p:blipFill>
        <p:spPr>
          <a:xfrm>
            <a:off x="4041720" y="2463840"/>
            <a:ext cx="458640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549360"/>
            <a:ext cx="7886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c2c84"/>
                </a:solidFill>
                <a:latin typeface="Arial"/>
              </a:rPr>
              <a:t>ФРАЗЕОЛОГИЗМЫ, ВЫШЕДШИЕ ИЗ ПОГОВОРОК,ПОСЛОВИЦ, СКАЗОК.</a:t>
            </a:r>
            <a:br>
              <a:rPr sz="1800"/>
            </a:br>
            <a:r>
              <a:rPr b="1" lang="ru-RU" sz="2200" spc="-1" strike="noStrike">
                <a:solidFill>
                  <a:srgbClr val="2c2c84"/>
                </a:solidFill>
                <a:latin typeface="Arial"/>
              </a:rPr>
              <a:t>ЛЬВИНАЯ ДОЛЯ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ihover-img" descr="Лев, осел и лисица вышли на добычу ..."/>
          <p:cNvPicPr/>
          <p:nvPr/>
        </p:nvPicPr>
        <p:blipFill>
          <a:blip r:embed="rId1"/>
          <a:srcRect l="0" t="0" r="13807" b="0"/>
          <a:stretch/>
        </p:blipFill>
        <p:spPr>
          <a:xfrm>
            <a:off x="1835280" y="1889280"/>
            <a:ext cx="54734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549000"/>
            <a:ext cx="78868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c2c84"/>
                </a:solidFill>
                <a:latin typeface="Arial"/>
              </a:rPr>
              <a:t>ФРАЗЕОЛОГИЗМЫ, ВОЗНИКШИЕ НА ОСНОВЕ НАБЛЮДЕНИЙ ЗА ЖИВОТНЫМИ</a:t>
            </a:r>
            <a:br>
              <a:rPr sz="1800"/>
            </a:br>
            <a:r>
              <a:rPr b="1" lang="ru-RU" sz="2200" spc="-1" strike="noStrike">
                <a:solidFill>
                  <a:srgbClr val="2c2c84"/>
                </a:solidFill>
                <a:latin typeface="Arial"/>
              </a:rPr>
              <a:t>БЕЗ ЗАДНИХ НОГ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5" name="Объект 3" descr="Красивые лошади (56 фото)"/>
          <p:cNvPicPr/>
          <p:nvPr/>
        </p:nvPicPr>
        <p:blipFill>
          <a:blip r:embed="rId1"/>
          <a:stretch/>
        </p:blipFill>
        <p:spPr>
          <a:xfrm>
            <a:off x="1324080" y="1839960"/>
            <a:ext cx="64958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620640"/>
            <a:ext cx="7886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2c2c84"/>
                </a:solidFill>
                <a:latin typeface="Arial"/>
              </a:rPr>
              <a:t>В результате нашей работы:</a:t>
            </a:r>
            <a:br>
              <a:rPr sz="2200"/>
            </a:b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7904160" cy="4811760"/>
        </p:xfrm>
        <a:graphic>
          <a:graphicData uri="http://schemas.openxmlformats.org/drawingml/2006/table">
            <a:tbl>
              <a:tblPr/>
              <a:tblGrid>
                <a:gridCol w="2278080"/>
                <a:gridCol w="2247840"/>
                <a:gridCol w="3378240"/>
              </a:tblGrid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35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то такое фразеологизм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разеологизм можно заменить одним или несколькими слов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разеологизмы украшают нашу реч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какие группы можно разделить фразеологизм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учиться пользоваться словаря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ьно употребить фразеологиз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своили значение понятия «фразеологизм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знали много фразеологизмов, о которых раньше и не слышал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знали о разнообразных фразеологических словаря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знакомились с происхождением фразеологизмов, разделили их на групп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-2905200" y="38520"/>
            <a:ext cx="120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524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олним третью графу нашей таблиц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250920" y="476280"/>
            <a:ext cx="80661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шукин, Н. С., Ашукина, М. Г. Крылатые слова: Литературные цитаты; образные выражения [Текст] / Н. С. Ашукин, М. Г. Ашукина. - Изд. 4-е, дополн. - М.: Худож. лит., 1987. - 52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егов, С. И. и Шведова, Н. Ю. Толковый словарь русского языка [Текст] / С. И. Ожегов, Н. Ю. Шведова. - 4-е изд., доп. - М.: Азбуковник, 1998. - 944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, В. П. Словарь русских пословиц и поговорок [Текст] / В. П. Жуков. - 4-е изд., испр. и доп. - М.: Рус. яз., 1991. - 534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, А.В. Лексико-фразеологический словарь русского языка: ок. 1500 фразеологический единиц  /А.В.Жуков. – М.:Астрель: АСТ, 2007. – 603,5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ерович, А.М. Фразеологизмы в русской речи: словарь. кино [Текст] / А.М. Мелерович.- ООО Издательство АСТ, 2005г.-864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е,Т. В. Большой фразеологический словарь для детей.  [Текст] / Т.В. Розе – М.: ОЛМА Медиа Групп, 2010. -224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зеологический словарь русского языка / Л. А. Войнова, В. П. Жуков, А. И. Молотков, А. И. Фёдоров; под ред. А. И. Молоткова. - Изд. 5-е, стер. - СПб.: Вариант, 1994. - 544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фразеологический словарь русского языка. Значение. Употребление. Культурологический комментарий / отв. ред. д-р филол. наук В. Н. Телия - М.: АСТ - ПРЕСС КНИГА, 2006. - 784 с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зеологический словарь русского языка (сост. Татьянченко Н.Ф.). М.: Диалог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csite.info/     этимологический слова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trezal.ru/catch-words/368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razbook.ru/frazeologizmy/ - слова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razeologia.r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 rot="21040800">
            <a:off x="1751400" y="1209600"/>
            <a:ext cx="48909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Monotype Corsiva"/>
              </a:rPr>
              <a:t>Спасибо за внимание!</a:t>
            </a:r>
            <a:r>
              <a:rPr b="1" i="1" lang="ru-RU" sz="5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Мы сегодня не переливали из пустого в порожнее, а работали не покладая рук, засучив рукав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585e0"/>
                </a:solidFill>
                <a:latin typeface="Times New Roman"/>
                <a:ea typeface="Times New Roman"/>
              </a:rPr>
              <a:t>И мы не смотрели на работу одноклассников сквозь паль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4500720" y="428760"/>
            <a:ext cx="4286160" cy="5580360"/>
          </a:xfrm>
          <a:prstGeom prst="rect">
            <a:avLst/>
          </a:prstGeom>
          <a:solidFill>
            <a:srgbClr val="00b0f0"/>
          </a:solidFill>
          <a:ln w="25560">
            <a:solidFill>
              <a:srgbClr val="1e1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В. Ломоносов называл устойчивые сочета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разесами»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ми послов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предлагая включить их в словарь. Учёные поняли, что фразеологизмы создают как бы особый ярус в языке. Родился новый раздел о языке – фразеолог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зеологизмы по-своему отражают жизнь нашего народа с очень далёких времён, в них выражен дух народа, его история, обыча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Рисунок 3" descr="http://www.russianculture.ru/Culture_img/39-78-1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28760"/>
            <a:ext cx="4071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84280" y="83664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Фразеологизм</a:t>
            </a:r>
            <a:r>
              <a:rPr b="0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, -а, м. В языкознании: устойчивое выражение с самостоятельным значением, которое в целом отличается от простой суммы значение его ча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Фразеологизм</a:t>
            </a:r>
            <a:r>
              <a:rPr b="0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 - лексически неделимая, воспроизводимая единица языка, устойчивая в своем составе: бить баклуши, закадычный д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9280" y="1699560"/>
            <a:ext cx="705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36360" y="260280"/>
            <a:ext cx="9090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АНТОНИ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Слова не вытянешь (</a:t>
            </a:r>
            <a:r>
              <a:rPr b="0" i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рта не закрывают</a:t>
            </a: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Кот наплакал </a:t>
            </a:r>
            <a:r>
              <a:rPr b="0" i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(куры не клюют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Как кошка с собакой </a:t>
            </a:r>
            <a:r>
              <a:rPr b="0" i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(душа в душу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За словом в карман не полезет </a:t>
            </a:r>
            <a:r>
              <a:rPr b="0" i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(язык проглотил</a:t>
            </a: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СИНОНИ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омолчать в тряпочку (</a:t>
            </a:r>
            <a:r>
              <a:rPr b="0" i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держать язык за зубами</a:t>
            </a: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Хоть глаз выколи (</a:t>
            </a:r>
            <a:r>
              <a:rPr b="0" i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ни зги не видно</a:t>
            </a: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Работать засучив рукава (</a:t>
            </a:r>
            <a:r>
              <a:rPr b="0" i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не покладая рук</a:t>
            </a: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Со всех ног (</a:t>
            </a:r>
            <a:r>
              <a:rPr b="0" i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сломя голову</a:t>
            </a:r>
            <a:r>
              <a:rPr b="0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6" descr="C:\Users\Users\Desktop\IMG_4520.JPG"/>
          <p:cNvPicPr/>
          <p:nvPr/>
        </p:nvPicPr>
        <p:blipFill>
          <a:blip r:embed="rId1"/>
          <a:srcRect l="7973" t="1663" r="0" b="2775"/>
          <a:stretch/>
        </p:blipFill>
        <p:spPr>
          <a:xfrm>
            <a:off x="3200400" y="-20520"/>
            <a:ext cx="2023920" cy="3063600"/>
          </a:xfrm>
          <a:prstGeom prst="rect">
            <a:avLst/>
          </a:prstGeom>
          <a:ln w="0">
            <a:noFill/>
          </a:ln>
        </p:spPr>
      </p:pic>
      <p:pic>
        <p:nvPicPr>
          <p:cNvPr id="66" name="Объект 3" descr="IMG_4521"/>
          <p:cNvPicPr/>
          <p:nvPr/>
        </p:nvPicPr>
        <p:blipFill>
          <a:blip r:embed="rId2"/>
          <a:stretch/>
        </p:blipFill>
        <p:spPr>
          <a:xfrm rot="418800">
            <a:off x="6149520" y="163080"/>
            <a:ext cx="2641680" cy="3608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C:\Users\Users\Desktop\IMG_4522.JPG"/>
          <p:cNvPicPr/>
          <p:nvPr/>
        </p:nvPicPr>
        <p:blipFill>
          <a:blip r:embed="rId3"/>
          <a:stretch/>
        </p:blipFill>
        <p:spPr>
          <a:xfrm>
            <a:off x="4211640" y="3068640"/>
            <a:ext cx="2906640" cy="3579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C:\Users\Users\Desktop\IMG_4515.JPG"/>
          <p:cNvPicPr/>
          <p:nvPr/>
        </p:nvPicPr>
        <p:blipFill>
          <a:blip r:embed="rId4"/>
          <a:srcRect l="3768" t="7382" r="1997" b="4569"/>
          <a:stretch/>
        </p:blipFill>
        <p:spPr>
          <a:xfrm>
            <a:off x="130320" y="1944720"/>
            <a:ext cx="33066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 rot="15553800">
            <a:off x="1026000" y="-713520"/>
            <a:ext cx="2198880" cy="3908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"/>
          <p:cNvPicPr/>
          <p:nvPr/>
        </p:nvPicPr>
        <p:blipFill>
          <a:blip r:embed="rId2"/>
          <a:stretch/>
        </p:blipFill>
        <p:spPr>
          <a:xfrm rot="11580600">
            <a:off x="3970080" y="636480"/>
            <a:ext cx="490680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"/>
          <p:cNvPicPr/>
          <p:nvPr/>
        </p:nvPicPr>
        <p:blipFill>
          <a:blip r:embed="rId3"/>
          <a:stretch/>
        </p:blipFill>
        <p:spPr>
          <a:xfrm>
            <a:off x="324000" y="3006720"/>
            <a:ext cx="4216320" cy="23716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C:\Users\Users\Desktop\IMG_4519.JPG"/>
          <p:cNvPicPr/>
          <p:nvPr/>
        </p:nvPicPr>
        <p:blipFill>
          <a:blip r:embed="rId4"/>
          <a:srcRect l="11945" t="3727" r="1463" b="0"/>
          <a:stretch/>
        </p:blipFill>
        <p:spPr>
          <a:xfrm>
            <a:off x="4768920" y="3573360"/>
            <a:ext cx="206352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371520" y="677880"/>
            <a:ext cx="2933640" cy="3908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7093080" y="369720"/>
            <a:ext cx="1850760" cy="3294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3"/>
          <a:stretch/>
        </p:blipFill>
        <p:spPr>
          <a:xfrm>
            <a:off x="3414600" y="2055960"/>
            <a:ext cx="3591000" cy="4797360"/>
          </a:xfrm>
          <a:prstGeom prst="rect">
            <a:avLst/>
          </a:prstGeom>
          <a:ln w="0">
            <a:noFill/>
          </a:ln>
        </p:spPr>
      </p:pic>
      <p:sp>
        <p:nvSpPr>
          <p:cNvPr id="78" name="Надпись 46"/>
          <p:cNvSpPr/>
          <p:nvPr/>
        </p:nvSpPr>
        <p:spPr>
          <a:xfrm>
            <a:off x="7451640" y="2924280"/>
            <a:ext cx="13813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44546a"/>
                </a:solidFill>
                <a:latin typeface="Times New Roman"/>
                <a:ea typeface="Calibri"/>
              </a:rPr>
              <a:t>   </a:t>
            </a:r>
            <a:r>
              <a:rPr b="0" i="1" lang="ru-RU" sz="1200" spc="-1" strike="noStrike">
                <a:solidFill>
                  <a:srgbClr val="44546a"/>
                </a:solidFill>
                <a:latin typeface="Times New Roman"/>
                <a:ea typeface="Calibri"/>
              </a:rPr>
              <a:t>Дело в шляп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Надпись 46"/>
          <p:cNvSpPr/>
          <p:nvPr/>
        </p:nvSpPr>
        <p:spPr>
          <a:xfrm>
            <a:off x="755640" y="4246560"/>
            <a:ext cx="138096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44546a"/>
                </a:solidFill>
                <a:latin typeface="Times New Roman"/>
                <a:ea typeface="Calibri"/>
              </a:rPr>
              <a:t>   </a:t>
            </a:r>
            <a:r>
              <a:rPr b="0" i="1" lang="ru-RU" sz="1200" spc="-1" strike="noStrike">
                <a:solidFill>
                  <a:srgbClr val="44546a"/>
                </a:solidFill>
                <a:latin typeface="Times New Roman"/>
                <a:ea typeface="Calibri"/>
              </a:rPr>
              <a:t>Волосы дыб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"/>
          <p:cNvPicPr/>
          <p:nvPr/>
        </p:nvPicPr>
        <p:blipFill>
          <a:blip r:embed="rId1"/>
          <a:srcRect l="22678" t="0" r="0" b="0"/>
          <a:stretch/>
        </p:blipFill>
        <p:spPr>
          <a:xfrm>
            <a:off x="3290760" y="1413000"/>
            <a:ext cx="2824200" cy="3770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IMG_4547"/>
          <p:cNvPicPr/>
          <p:nvPr/>
        </p:nvPicPr>
        <p:blipFill>
          <a:blip r:embed="rId2"/>
          <a:stretch/>
        </p:blipFill>
        <p:spPr>
          <a:xfrm>
            <a:off x="6227640" y="3141720"/>
            <a:ext cx="2727360" cy="3716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IMG_4543"/>
          <p:cNvPicPr/>
          <p:nvPr/>
        </p:nvPicPr>
        <p:blipFill>
          <a:blip r:embed="rId3"/>
          <a:stretch/>
        </p:blipFill>
        <p:spPr>
          <a:xfrm>
            <a:off x="257040" y="228600"/>
            <a:ext cx="2919600" cy="4089240"/>
          </a:xfrm>
          <a:prstGeom prst="rect">
            <a:avLst/>
          </a:prstGeom>
          <a:ln w="0">
            <a:noFill/>
          </a:ln>
        </p:spPr>
      </p:pic>
      <p:sp>
        <p:nvSpPr>
          <p:cNvPr id="83" name="Надпись 46"/>
          <p:cNvSpPr/>
          <p:nvPr/>
        </p:nvSpPr>
        <p:spPr>
          <a:xfrm>
            <a:off x="539640" y="4005360"/>
            <a:ext cx="1381320" cy="20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44546a"/>
                </a:solidFill>
                <a:latin typeface="Times New Roman"/>
                <a:ea typeface="Calibri"/>
              </a:rPr>
              <a:t>   </a:t>
            </a:r>
            <a:r>
              <a:rPr b="0" i="1" lang="ru-RU" sz="1200" spc="-1" strike="noStrike">
                <a:solidFill>
                  <a:srgbClr val="44546a"/>
                </a:solidFill>
                <a:latin typeface="Times New Roman"/>
                <a:ea typeface="Calibri"/>
              </a:rPr>
              <a:t>Большая шиш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Надпись 46"/>
          <p:cNvSpPr/>
          <p:nvPr/>
        </p:nvSpPr>
        <p:spPr>
          <a:xfrm>
            <a:off x="3881520" y="3324240"/>
            <a:ext cx="138096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44546a"/>
                </a:solidFill>
                <a:latin typeface="Times New Roman"/>
                <a:ea typeface="Calibri"/>
              </a:rPr>
              <a:t>   </a:t>
            </a:r>
            <a:r>
              <a:rPr b="0" i="1" lang="ru-RU" sz="1200" spc="-1" strike="noStrike">
                <a:solidFill>
                  <a:srgbClr val="44546a"/>
                </a:solidFill>
                <a:latin typeface="Times New Roman"/>
                <a:ea typeface="Calibri"/>
              </a:rPr>
              <a:t>Заварить каш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Надпись 46"/>
          <p:cNvSpPr/>
          <p:nvPr/>
        </p:nvSpPr>
        <p:spPr>
          <a:xfrm>
            <a:off x="6229440" y="3533760"/>
            <a:ext cx="215892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200" spc="-1" strike="noStrike">
                <a:solidFill>
                  <a:srgbClr val="44546a"/>
                </a:solidFill>
                <a:latin typeface="Times New Roman"/>
                <a:ea typeface="Calibri"/>
              </a:rPr>
              <a:t>   </a:t>
            </a:r>
            <a:r>
              <a:rPr b="0" i="1" lang="ru-RU" sz="1200" spc="-1" strike="noStrike">
                <a:solidFill>
                  <a:srgbClr val="44546a"/>
                </a:solidFill>
                <a:latin typeface="Times New Roman"/>
                <a:ea typeface="Calibri"/>
              </a:rPr>
              <a:t>Вставлять палки в коле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1592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2c2c84"/>
                </a:solidFill>
                <a:latin typeface="Times New Roman"/>
                <a:ea typeface="Times New Roman"/>
              </a:rPr>
              <a:t>СЛОВАРИ</a:t>
            </a:r>
            <a:endParaRPr b="0" lang="en-US" sz="66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28560" y="2293920"/>
            <a:ext cx="7886880" cy="32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8" name="Рисунок 3" descr="Инесса Агеева - 500 крылатых фраз для детей обложка книги"/>
          <p:cNvPicPr/>
          <p:nvPr/>
        </p:nvPicPr>
        <p:blipFill>
          <a:blip r:embed="rId1"/>
          <a:stretch/>
        </p:blipFill>
        <p:spPr>
          <a:xfrm>
            <a:off x="338040" y="1428840"/>
            <a:ext cx="1571760" cy="2428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https://img.myklad.org/posts/2rDg5sLRtbDi1J7eobWTpeLFeuLIpNnZutnYxpluJxoOLfmJndt5k/bolshoj-frazeologicheskij-slovar-dlya-detej-roze-t-v-1.jpg"/>
          <p:cNvPicPr/>
          <p:nvPr/>
        </p:nvPicPr>
        <p:blipFill>
          <a:blip r:embed="rId2"/>
          <a:stretch/>
        </p:blipFill>
        <p:spPr>
          <a:xfrm>
            <a:off x="2257560" y="1116000"/>
            <a:ext cx="1622160" cy="2209680"/>
          </a:xfrm>
          <a:prstGeom prst="rect">
            <a:avLst/>
          </a:prstGeom>
          <a:ln w="0">
            <a:noFill/>
          </a:ln>
        </p:spPr>
      </p:pic>
      <p:pic>
        <p:nvPicPr>
          <p:cNvPr id="90" name="main-image-book" descr="https://i.livelib.ru/boocover/1000613576/l/eeeb/E._A._Vartanyan__Puteshestvie_v_slovo.jpg"/>
          <p:cNvPicPr/>
          <p:nvPr/>
        </p:nvPicPr>
        <p:blipFill>
          <a:blip r:embed="rId3"/>
          <a:stretch/>
        </p:blipFill>
        <p:spPr>
          <a:xfrm>
            <a:off x="4227480" y="1090440"/>
            <a:ext cx="1428840" cy="18576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 Толковый словарь библейских выражений и слов Словарь предназначен широкому кругу читателей - писателям и журналистам, учителям-словесникам и преподавателям теологии, студентам, школьникам и всем,"/>
          <p:cNvPicPr/>
          <p:nvPr/>
        </p:nvPicPr>
        <p:blipFill>
          <a:blip r:embed="rId4"/>
          <a:stretch/>
        </p:blipFill>
        <p:spPr>
          <a:xfrm>
            <a:off x="7040520" y="1116000"/>
            <a:ext cx="15606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Иллюстрация 2 из 5 для Словарь современной русской фразеологии - Жуков, Жукова | Лабиринт - книги. Источник: Мак  Лиля">
            <a:hlinkClick r:id="rId5"/>
          </p:cNvPr>
          <p:cNvPicPr/>
          <p:nvPr/>
        </p:nvPicPr>
        <p:blipFill>
          <a:blip r:embed="rId6"/>
          <a:srcRect l="18070" t="8388" r="6800" b="13319"/>
          <a:stretch/>
        </p:blipFill>
        <p:spPr>
          <a:xfrm>
            <a:off x="1649520" y="3624120"/>
            <a:ext cx="1557360" cy="2163960"/>
          </a:xfrm>
          <a:prstGeom prst="rect">
            <a:avLst/>
          </a:prstGeom>
          <a:ln w="0">
            <a:noFill/>
          </a:ln>
        </p:spPr>
      </p:pic>
      <p:pic>
        <p:nvPicPr>
          <p:cNvPr id="93" name="main-image-book" descr="https://j.livelib.ru/boocover/1000001504/l/71c1/E._A._Bystrova_A._P._Okuneva_N._M._Shanskij__Uchebnyj_frazeologicheskij_slovar.jpg"/>
          <p:cNvPicPr/>
          <p:nvPr/>
        </p:nvPicPr>
        <p:blipFill>
          <a:blip r:embed="rId7"/>
          <a:stretch/>
        </p:blipFill>
        <p:spPr>
          <a:xfrm>
            <a:off x="3754440" y="3252960"/>
            <a:ext cx="1428840" cy="2163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https://j.livelib.ru/boocover/1000181043/o/37d6/Mark_Botvinnik_M.Kogan_Moisej_Rabinovich__Mifologicheskij_slovar.jpeg"/>
          <p:cNvPicPr/>
          <p:nvPr/>
        </p:nvPicPr>
        <p:blipFill>
          <a:blip r:embed="rId8"/>
          <a:stretch/>
        </p:blipFill>
        <p:spPr>
          <a:xfrm>
            <a:off x="5421240" y="2338560"/>
            <a:ext cx="1428840" cy="2300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Школьный фразеологический словарь русского языка"/>
          <p:cNvPicPr/>
          <p:nvPr/>
        </p:nvPicPr>
        <p:blipFill>
          <a:blip r:embed="rId9"/>
          <a:stretch/>
        </p:blipFill>
        <p:spPr>
          <a:xfrm>
            <a:off x="6562800" y="3798720"/>
            <a:ext cx="195264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08:23:11Z</dcterms:created>
  <dc:creator>Колокольцова ТН</dc:creator>
  <dc:description/>
  <dc:language>en-US</dc:language>
  <cp:lastModifiedBy>Пользователь</cp:lastModifiedBy>
  <dcterms:modified xsi:type="dcterms:W3CDTF">2017-10-30T06:32:25Z</dcterms:modified>
  <cp:revision>150</cp:revision>
  <dc:subject>Лига социальных партнеров</dc:subject>
  <dc:title>Слайд 1</dc:title>
</cp:coreProperties>
</file>